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B0A2-8BEE-4F53-A170-2CF5E3B5FC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AB1F-1360-4084-BB84-D03EE6F114A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0185-565A-483B-ADE1-E42F0BBA71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0AE-C62A-468A-A000-13E2649E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7058-D612-4DC1-A001-0119E903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3D76-E6FF-4930-8B6D-3D2FF649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33E-32F9-4055-9C5F-75EEBC72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4D76-3A89-49B5-8DD8-48D8A6F3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2233-BF7C-4D3B-B2E8-014176D2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AE3E-BF03-4957-B8DC-BA798272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C487-4851-4A57-9A87-3B521881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AB24-F4A9-442B-88DF-1C85B455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3220-9DA8-4804-B5B5-2F711AE2E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A886-4ABC-4390-861B-54348120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BD07-0C66-4C17-B111-B4A11130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A2E78-D9E5-466F-BE7F-78CAD204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FC46-02AB-43B6-8E97-67F8E5A4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A72B-8085-4A34-A9B4-D93E8C27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E102A-9367-4822-9073-EEFA3962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59EE-EC0C-4D47-8D26-44BD85692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F511E-1744-480B-8FC4-530A38C0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B761BD-CC91-4C7F-B04A-CF250231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1988A-788C-4CBB-BACA-036557AF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7E6FE-E5C5-4F81-9778-6E9E6551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06E369-E130-4D2C-BA30-D04138FC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CBA-190D-40D3-9AA8-1C103DB9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B2931-AE5C-4312-8E6A-5F656D7A2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C6641-C041-48AA-B22B-84DCD324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A5700-C995-4149-9EF4-992E04D4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7DFB2-BCAB-4C64-88DB-F6D1A451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ACA463-7EA2-48F5-A191-6D4903DD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0443A-707C-44C3-8C4E-398407215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788FCE-236C-4D43-B736-E6901460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AE535-B26E-46D0-AE4D-DD8BDF96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C09BE-AB9E-42B9-83E9-7C001FFA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189AB-D261-4C12-A063-DAF151CE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70D-B7AD-4D44-B3AA-34622CA1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AA796-DB87-438F-B71F-72E64B7C5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B3472-E70B-4C3C-852A-3F7BEC6A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5B344-22D4-4779-A132-845A3793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E618E-F7FC-478A-B5AC-2175822A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40B14-A175-413C-953E-0C0D7D0F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201B6-66D7-4745-9DE5-C8EEDD62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A8258-21CA-4CE1-966A-502EB30D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38392-3B27-426C-9A7A-D164331D1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3C919-9698-4EB8-ABE5-AD528F65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BE76-3506-4EDE-AD26-676CCF54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6CC4-9594-4A5B-84C7-9F20660E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BAFE-F84F-4B77-A1FB-547EF2F7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91C-C4C0-4D79-B75B-E83DBF95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225-5AE4-4287-9A41-78C60369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DADC-D4A9-4E00-BECD-EF0B35986DC1}" type="slidenum">
              <a:rPr b="0" lang="en-A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HHD12_bnr.jpg"/>
          <p:cNvPicPr/>
          <p:nvPr/>
        </p:nvPicPr>
        <p:blipFill>
          <a:blip r:embed="rId2"/>
          <a:stretch/>
        </p:blipFill>
        <p:spPr>
          <a:xfrm>
            <a:off x="0" y="0"/>
            <a:ext cx="75596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61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7" name="Rectangle 121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1" name="Rectangle 118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Rectangle 120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5" name="Rectangle 115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Rectangle 117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Rectangle 91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93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Freeform 63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8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Hexagon 7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6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Hexagon 85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7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124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7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3D79-3C06-460B-9C91-499CDC4E4B59}" type="slidenum">
              <a:rPr b="0" lang="en-A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61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9" name="Group 62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7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1" name="Rectangle 121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5" name="Rectangle 118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Rectangle 120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9" name="Rectangle 115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117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Rectangle 91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93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63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8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Hexagon 7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6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Hexagon 85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7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Rectangle 124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7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64A97-BD61-46D4-A177-958FAA7E619C}" type="slidenum">
              <a:rPr b="0" lang="en-A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61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3" name="Group 62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5" name="Rectangle 121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9" name="Rectangle 118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20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3" name="Rectangle 115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117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Rectangle 91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93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Freeform 63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68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Hexagon 7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6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Hexagon 85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87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Rectangle 124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7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5951-9EBF-459B-B40A-379E3E37B941}" type="slidenum">
              <a:rPr b="0" lang="en-A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43280" y="2060640"/>
            <a:ext cx="439272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Exploring</a:t>
            </a:r>
            <a:br>
              <a:rPr sz="4000"/>
            </a:b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human developmen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Interrelationships between health and human development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he interrelationships between health and human development can be described as a complex web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Optimal health requires optimal development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Optimal development requires optimal health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Interrelationships between health and human development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Optimal health is achieving the best possible health to which someone can realistically aspire, in some or all three dimensions of health (physical, social and mental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Optimal health also requires optimal physical, social, emotional and intellectual development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The human lifespan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spcBef>
                <a:spcPts val="550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An individual’s lifespan is the length of time that a person lives – from conception to death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550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The human lifespan can be broken into segments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Prenatal period (conception to birth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Infancy (birth to 2 years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Childhood (2 to 12 years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Youth (12 to 18 years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Adulthood (18 years+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Dimensions of human development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Human development relates to physical, social emotional and intellectual components or </a:t>
            </a:r>
            <a:r>
              <a:rPr b="1" i="1" lang="en-US" sz="2400" spc="-1" strike="noStrike">
                <a:solidFill>
                  <a:srgbClr val="3e3d2d"/>
                </a:solidFill>
                <a:latin typeface="Century Gothic"/>
              </a:rPr>
              <a:t>dimension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These are known as the dimensions of human development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Physical developmen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6496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Refers to changes in the complexity, structure and function of the body, including growth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32640" indent="-26496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For example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Change in weight and height that usually occur during the first 15 to 20 years after birt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Rapid growth at infancy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Change in body shape over lifespa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Sexual maturation at puberty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20280" indent="-26460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e3d2d"/>
                </a:solidFill>
                <a:latin typeface="Century Gothic"/>
              </a:rPr>
              <a:t>Changes in the production of hormones, for example at puberty and menopause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94c600"/>
                </a:solidFill>
                <a:latin typeface="Century Gothic"/>
              </a:rPr>
              <a:t>Gross and Fine motor skill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3e3d2d"/>
                </a:solidFill>
                <a:uFillTx/>
                <a:latin typeface="Century Gothic"/>
              </a:rPr>
              <a:t>Gross motor skills </a:t>
            </a:r>
            <a:r>
              <a:rPr b="1" lang="en-AU" sz="2400" spc="-1" strike="noStrike">
                <a:solidFill>
                  <a:srgbClr val="3e3d2d"/>
                </a:solidFill>
                <a:latin typeface="Century Gothic"/>
              </a:rPr>
              <a:t>refers to the ability to control the movement of larger muscle groups within the bod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3e3d2d"/>
                </a:solidFill>
                <a:uFillTx/>
                <a:latin typeface="Century Gothic"/>
              </a:rPr>
              <a:t>Fine motor skills </a:t>
            </a:r>
            <a:r>
              <a:rPr b="1" lang="en-AU" sz="2400" spc="-1" strike="noStrike">
                <a:solidFill>
                  <a:srgbClr val="3e3d2d"/>
                </a:solidFill>
                <a:latin typeface="Century Gothic"/>
              </a:rPr>
              <a:t>refers to the ability to control the movement of smaller muscle groups within the bod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4a6300"/>
                </a:solidFill>
                <a:latin typeface="Century Gothic"/>
              </a:rPr>
              <a:t>Complete Activity 1.5 on page 12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Social developmen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Refers to changes and improvements in people’s abilities to interact with others, relate to other people and learn to live in social group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A lifelong proces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ncludes complex behaviour such as using language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Emotional development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Refers to the capacity to recognise, express and control feelings and emotion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ncludes development of self-esteem and self-confidence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Intellectual development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2674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Refers to changes in mental skills and abilities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35880" indent="-2674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Includes the capacity to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Learn new things and understand concep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Remember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Think logicall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Be creative and imaginative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26760" indent="-26712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Solve problems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71280" y="1026720"/>
            <a:ext cx="709596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4c600"/>
                </a:solidFill>
                <a:latin typeface="Century Gothic"/>
              </a:rPr>
              <a:t>Interrelationship between the dimensions of human development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All of the dimensions of human development are interrelated, for exampl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Changes that occur at puberty (physical development) can have an effect on self-esteem (emotional development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Being part of a group (social development) can help a person gain new skills (intellectual development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2:29:01Z</dcterms:created>
  <dc:creator>charlesc1</dc:creator>
  <dc:description/>
  <dc:language>en-US</dc:language>
  <cp:lastModifiedBy>08470047</cp:lastModifiedBy>
  <dcterms:modified xsi:type="dcterms:W3CDTF">2011-02-15T23:14:00Z</dcterms:modified>
  <cp:revision>27</cp:revision>
  <dc:subject/>
  <dc:title>Slide 1</dc:title>
</cp:coreProperties>
</file>